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08603"/>
        <c:axId val="14979567"/>
      </c:barChart>
      <c:catAx>
        <c:axId val="53708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79567"/>
        <c:crosses val="autoZero"/>
        <c:auto val="1"/>
        <c:lblAlgn val="ctr"/>
        <c:lblOffset val="100"/>
        <c:noMultiLvlLbl val="0"/>
      </c:catAx>
      <c:valAx>
        <c:axId val="149795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08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B95-110F-4F19-8F17-747321D8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2FC-D18D-483F-9E55-16114114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E221-D566-4C64-A8F8-37CC9EC5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9156-9C36-42D0-8AEE-7F4CEB53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9F55-A184-4F15-85A4-779F99BE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343-020D-4646-B177-86AF4832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FED-27F5-427E-AD40-7110A876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477-05D8-4B86-ACE7-3BC7AEAB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A0D-3C9C-45C4-88F4-DBD9BDE6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6911-5309-4046-BF87-F67A175E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0AF-E116-43C3-ACA7-45185F20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D1FF-C876-4546-B4CF-A48F1045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97BD4-6ADD-417B-B68C-4F33A42B86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